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96118-29C8-4FCB-8EA0-6FC063BFC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F179D-080D-433D-A9A6-D50E8AA7F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73C17-6CFB-497F-BEE5-3C7CC3ED3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0EFBC-CEB2-4356-830F-7FB3F134C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A2B13-3A75-4563-AEDE-AA09E45D3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0CAFC-1843-4542-A12D-818B4BE4E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45A01-C169-4DD0-AAA2-0D1BD54BB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C4965-8B7E-4DA3-A660-801BB8843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211EE-28B5-4FE9-8F35-2949A3451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E979D-61C1-44A0-9238-0772BD83C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15943-0152-46C8-A608-287593EED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8938C-AAC3-4FD8-B5A7-5ADC9FCA1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ff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A681D-A664-4C61-82A3-122DCF36A0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228600" y="1371600"/>
            <a:ext cx="8915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ffffff"/>
                  </a:solidFill>
                  <a:miter/>
                </a:ln>
                <a:solidFill>
                  <a:srgbClr val="ffffff"/>
                </a:solidFill>
                <a:latin typeface="Century Gothic"/>
              </a:rPr>
              <a:t>My Research On </a:t>
            </a:r>
            <a:endParaRPr b="0" lang="en-US" sz="2800" spc="1" strike="noStrike">
              <a:ln w="25560">
                <a:solidFill>
                  <a:srgbClr val="ffffff"/>
                </a:solidFill>
                <a:miter/>
              </a:ln>
              <a:solidFill>
                <a:srgbClr val="ffffff"/>
              </a:solidFill>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ffffff"/>
                  </a:solidFill>
                  <a:miter/>
                </a:ln>
                <a:solidFill>
                  <a:srgbClr val="ffffff"/>
                </a:solidFill>
                <a:latin typeface="Century Gothic"/>
              </a:rPr>
              <a:t>MP3 Players..</a:t>
            </a:r>
            <a:endParaRPr b="0" lang="en-US" sz="2800" spc="1" strike="noStrike">
              <a:ln w="25560">
                <a:solidFill>
                  <a:srgbClr val="ffffff"/>
                </a:solidFill>
                <a:miter/>
              </a:ln>
              <a:solidFill>
                <a:srgbClr val="ffffff"/>
              </a:solidFill>
              <a:latin typeface="Century Gothic"/>
              <a:ea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0" y="533520"/>
            <a:ext cx="9144000" cy="631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Arial"/>
              </a:rPr>
              <a:t>APPLE Ipod Shuffle 1GB: $65 Features include Holds up to 240 songs. Up to 12 hours battery life. Built-in rechargeable battery. No extr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Arial"/>
              </a:rPr>
              <a:t>APPLE Ipod Touch 8GB: $389 Features include 1,750 Song capacity, Built-In Rechargeable Lithium Ion Battery. Up To 22 Hours Of Music Playback; Up To 10 Hours Of Video Playback, 3.5-Inch Wide Screen Multi-Touch Display. 480-By-320-Pixel Resolution. No Extr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ea typeface="Times New Roman"/>
              </a:rPr>
              <a:t>So as you can see, APPLE Ipods are the trendy and “in things” at the moment, although they are not the most cheape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609480" y="457200"/>
            <a:ext cx="7467840" cy="52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ut I Choo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entury Gothic"/>
              </a:rPr>
              <a:t>The APPLE Ipod Classic 80GB from Tandy, as for a 20,000 song capacity MP3 player, it is quite cheap compared to some other Ipods and MP3 play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entury Gothic"/>
              </a:rPr>
              <a:t>So for this wonderful contraption I only pay $319 compared to paying $344 at the Good Guys, I save myself about $2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838080" y="2514600"/>
            <a:ext cx="7391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o Now You know some shops try to rip people off, not only on MP3 players but a lot of other thing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0" y="914400"/>
            <a:ext cx="9144000" cy="505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I did some research to see what MP3 Players were the best in many ways. Song Capacity, Look, Style and Price were just some of the outcomes that had to be assessed on each MP3 from the 4 different Stores.</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Dick Smith Electronics      The Good Guys</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Tandy                                 Targe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0" y="0"/>
            <a:ext cx="9144000" cy="680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irst Was Dick Smith Electronics, these were some of the MP3’s show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2</a:t>
            </a:r>
            <a:r>
              <a:rPr b="0" lang="en-US" sz="2000" spc="-1" strike="noStrike" baseline="30000">
                <a:solidFill>
                  <a:srgbClr val="000000"/>
                </a:solidFill>
                <a:latin typeface="Century Gothic"/>
                <a:ea typeface="Tahoma"/>
              </a:rPr>
              <a:t>nd</a:t>
            </a:r>
            <a:r>
              <a:rPr b="0" lang="en-US" sz="2000" spc="-1" strike="noStrike">
                <a:solidFill>
                  <a:srgbClr val="000000"/>
                </a:solidFill>
                <a:latin typeface="Century Gothic"/>
                <a:ea typeface="Tahoma"/>
              </a:rPr>
              <a:t> Generation APPLE Ipod Nano 2GB: $141 Features include up to 500 songs, up to 6000 photos, or a combination of each, Anodized aluminium enclosure, Smaller, thinner and lighter than the original iPod nano, Vivid backlit colour display, Up to 24 hours of battery life, Charge by USB or Apple iPod Power Adaptor (C 9850, Sold Separately) For Mac and Windows. No Extr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Creative Zen Micro 6GB MP3 Player: $109 Features include Storage Capacity of 6GB [Hard Drive] (about 3000 songs at 64kbps and 4mins each) USB 2.0 Interface, Up to 12 hours playtime with Removable Lithium Ion Battery, FM radio, Voice recorder, Contacts, calendar and tasks, Repeat, resume, and random play, Sleep and wake timers, Customizable main menu, Battery chargeable via USB cable, Functions as an external hard drive, 8 EQ settings (Acoustic, classical, disco, jazz, new age, pop, rock and vocal) No Extr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0" y="0"/>
            <a:ext cx="8915400" cy="664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And als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Times New Roman"/>
              </a:rPr>
              <a:t>SAMSUNG K3 2GB MP3 Player Red: $127 Features include 2GB Memory [Flash] Large 1.8" OLED COLOUR screen, Super long 25 hr battery, Easy to use touch pad light emitting menu, Photo slide show, FM radio, DNSe 3D sound with street Mode, Subscription service ready, Super slim design, Optional detachable speaker. No Extr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Times New Roman"/>
              </a:rPr>
              <a:t>APPLE Ipod Touch 32GB:  $629 Features include Revolutionary multi-touch interface, Brilliant 3.5-inch widescreen display, Ambient light sensor and accelerometer, Surf the web with Wi-Fi, Watch YouTube videos, Buy songs on the iTunes Wi-Fi Music Store from any Wi-Fi hot spot, For Mac and Windows. No Extr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Times New Roman"/>
              </a:rPr>
              <a:t>Then there w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990720" y="457200"/>
            <a:ext cx="7086600" cy="3508920"/>
          </a:xfrm>
          <a:prstGeom prst="rect">
            <a:avLst/>
          </a:prstGeom>
          <a:noFill/>
          <a:ln w="0">
            <a:noFill/>
          </a:ln>
        </p:spPr>
        <p:style>
          <a:lnRef idx="0"/>
          <a:fillRef idx="0"/>
          <a:effectRef idx="0"/>
          <a:fontRef idx="minor"/>
        </p:style>
        <p:txBody>
          <a:bodyPr lIns="-914040" rIns="-91404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ood Guy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Times New Roman"/>
              </a:rPr>
              <a:t>APPLE Ipod Classic 80GB: $344 Features include 20,000 song capacity, </a:t>
            </a:r>
            <a:r>
              <a:rPr b="0" lang="en-US" sz="2000" spc="-1" strike="noStrike">
                <a:solidFill>
                  <a:srgbClr val="ffffff"/>
                </a:solidFill>
                <a:latin typeface="Century Gothic"/>
                <a:ea typeface="Arial"/>
              </a:rPr>
              <a:t>Built-In Rechargeable Lithium Ion Battery. Music Playback Time: Up To 30 Hours When Fully Charged. Video Playback Time: Up To 5 Hours When Fully Charged, 2.5-Inch Colour LCD With LED Backlight, 320-By-240-Pixel Resolution, For Mac and Windows. No Extr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Arial"/>
              </a:rPr>
              <a:t>Sandisk 2GB Mp3 Player: $129 Features include 500 song capacity, 1.8inch TFT Colour Screen, Sleek Design. No Extr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457200" y="304920"/>
            <a:ext cx="8229600" cy="542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And als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Arial"/>
              </a:rPr>
              <a:t>Sony 2GB Mp3 Player: $99 Features include drag and drop transfer, Up To 12hrs Music Playback, 3-Line Colour LCD. No Extr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Times New Roman"/>
              </a:rPr>
              <a:t>APPLE Ipod Touch 8GB: $374 Features include 1,750 Song capacity, Built-In Rechargeable Lithium Ion Battery. Up To 22 Hours Of Music Playback; Up To 10 Hours Of Video Playback, 3.5-Inch Wide Screen Multi-Touch Display. 480-By-320-Pixel Resolution. No Extras.</a:t>
            </a:r>
            <a:r>
              <a:rPr b="0" lang="en-US" sz="2000" spc="-1" strike="noStrike">
                <a:solidFill>
                  <a:srgbClr val="ffffff"/>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1066680" y="609480"/>
            <a:ext cx="6934320" cy="4179600"/>
          </a:xfrm>
          <a:prstGeom prst="rect">
            <a:avLst/>
          </a:prstGeom>
          <a:noFill/>
          <a:ln w="0">
            <a:noFill/>
          </a:ln>
        </p:spPr>
        <p:style>
          <a:lnRef idx="0"/>
          <a:fillRef idx="0"/>
          <a:effectRef idx="0"/>
          <a:fontRef idx="minor"/>
        </p:style>
        <p:txBody>
          <a:bodyPr lIns="-914040" rIns="-91404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Arial"/>
              </a:rPr>
              <a:t>Tand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Times New Roman"/>
              </a:rPr>
              <a:t>Creative Zen Stone 1GB MP3 Player: $68 Features include Song capacity: 500 Battery Life⁄Playback: 10 hours, weighs only 18.5 g. No Extr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Times New Roman"/>
              </a:rPr>
              <a:t>APPLE Ipod Touch 16GB: $474 Features include16 GB Model, Revolutionary multi-touch interface, Brilliant 3.5-inch widescreen display, Ambient light sensor and accelerometer, Surf the web with Wi-Fi, Watch YouTube videos, Buy songs on the iTunes Wi-Fi Music Store from any Wi-Fi hot spot, For Mac and Windows. No Extr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0" y="0"/>
            <a:ext cx="9144000" cy="69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And al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Times New Roman"/>
              </a:rPr>
              <a:t>APPLE Ipod Classic 80GB: $319 Features include up to 20,000 songs, 100 hours of video, 12,500 photos, or some of each, 80GB models, New, thinner, anodized aluminum enclosure, Enhanced interface and Cover Flow, Available in silver or black, For Mac and Windows. No extr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ea typeface="Times New Roman"/>
              </a:rPr>
              <a:t>APPLE Ipod Touch 8GB: $398 Features include </a:t>
            </a:r>
            <a:r>
              <a:rPr b="0" lang="en-US" sz="2000" spc="-1" strike="noStrike">
                <a:solidFill>
                  <a:srgbClr val="ffffff"/>
                </a:solidFill>
                <a:latin typeface="Century Gothic"/>
                <a:ea typeface="Arial"/>
              </a:rPr>
              <a:t>Features include 1,750 Song capacity, Built-In Rechargeable Lithium Ion Battery. Up To 22 Hours Of Music Playback; Up To 10 Hours Of Video Playback, 3.5-Inch Wide Screen Multi-Touch Display. 480-By-320-Pixel Resolution. No Extr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ea typeface="Arial"/>
              </a:rPr>
              <a:t>Then the last shop I researched was one that was quite hard although you wouldn’t think 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380880"/>
            <a:ext cx="91440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Arial"/>
              </a:rPr>
              <a:t>Tar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entury Gothic"/>
                <a:ea typeface="Times New Roman"/>
              </a:rPr>
              <a:t>SAMSUNG K3 2GB MP3 Player Red: $109 Features include 2GB Memory [Flash] Large 1.8" OLED COLOUR screen, Super long 25 hr battery, Easy to use touch pad light emitting menu, Photo slide show, FM radio, DNSe 3D sound with street Mode, Subscription service ready, Super slim design, Optional detachable speaker. $20 cashback, $89 after cashba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entury Gothic"/>
                <a:ea typeface="Times New Roman"/>
              </a:rPr>
              <a:t>APPLE Ipod 3</a:t>
            </a:r>
            <a:r>
              <a:rPr b="0" lang="en-US" sz="2000" spc="-1" strike="noStrike" baseline="30000">
                <a:solidFill>
                  <a:srgbClr val="3333cc"/>
                </a:solidFill>
                <a:latin typeface="Century Gothic"/>
                <a:ea typeface="Times New Roman"/>
              </a:rPr>
              <a:t>rd</a:t>
            </a:r>
            <a:r>
              <a:rPr b="0" lang="en-US" sz="2000" spc="-1" strike="noStrike">
                <a:solidFill>
                  <a:srgbClr val="3333cc"/>
                </a:solidFill>
                <a:latin typeface="Century Gothic"/>
                <a:ea typeface="Times New Roman"/>
              </a:rPr>
              <a:t> Generation Nano 8GB: $279 Features include </a:t>
            </a:r>
            <a:r>
              <a:rPr b="0" lang="en-US" sz="2000" spc="-1" strike="noStrike">
                <a:solidFill>
                  <a:srgbClr val="3333cc"/>
                </a:solidFill>
                <a:latin typeface="Century Gothic"/>
                <a:ea typeface="Arial"/>
              </a:rPr>
              <a:t>Holds up to 2000 songs. 5cm (2") LCD screen. Up to 24 hours battery life. Includes $20 Itunes Gift Ca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3T12:08:13Z</dcterms:created>
  <dc:creator>thomson</dc:creator>
  <dc:description/>
  <dc:language>en-US</dc:language>
  <cp:lastModifiedBy>thomson</cp:lastModifiedBy>
  <dcterms:modified xsi:type="dcterms:W3CDTF">2008-03-13T12:08:58Z</dcterms:modified>
  <cp:revision>2</cp:revision>
  <dc:subject/>
  <dc:title>PowerPoint Presentation</dc:title>
</cp:coreProperties>
</file>